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6F2-B5DC-495D-AD11-CC008E9940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C5F-476D-4226-B308-8DF6E1CB5A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808C-5022-4036-9416-C2282F9869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38C-11E5-48EC-8B30-BF1B30B5AE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3CB-0446-4B1E-BE5D-CCB3225AB2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1F7-707E-4B35-865B-8C115532DA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666-AECA-4C8F-8F28-C90374E725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2A0-6626-484D-B20F-A89C003075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6CD9-0B29-4CAF-9C54-21EC8AF48F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4132-6503-447F-B792-91C39253BA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F0B-7891-49EF-A793-C481ACD28B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1CD-33F6-461D-9A43-FDFC9B25CF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6CE-5426-49DE-8D02-A64C66C1B0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135-8EB8-4A38-A3D9-48F6569733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115-9EA6-4DCE-B155-2722D8764B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DC2-7E85-4051-809F-874CB1417D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1A3-4C48-41F7-94D7-FB5ECD36FF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A8D0-6C80-4C8B-B814-6FB1843BD7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B65-7524-4AB3-94A3-3F4FFED4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11C-BC26-487F-83BC-7BAD5C5C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067-6E21-4060-A0D1-E02B3AC6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E4C-AF3F-4DB3-91DF-D7DCF71E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C18-4736-4BBF-857F-BF77C9CB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654-7113-4D60-B8A0-B8E64CCA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96B-0ACF-4F75-8B09-604D372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203-C78B-4462-9634-C492143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AD4-94CF-4A3B-AFBC-5BB4498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E72-03E0-487B-8E3E-C0173A9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112-56C4-4A8E-8C00-A2D4C42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915-4B99-4BB1-9A42-B3DF2BF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714D-912C-4110-B971-D611B85850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2060"/>
                </a:solidFill>
                <a:latin typeface="Calibri"/>
              </a:rPr>
              <a:t>METODOLOGIA DE LA INVESTIGACIÓN CIENTÍFICA Y SU RELACIÓN CON LA TESIS PROFESIONAL: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FUNDAMENTOS TEÓRICOS Y LAS FASES DE DISEÑO DE INVESTIG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Investigación es un proceso de producción de conocimientos científic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s un proceso sistemático a través del cual se recoge datos e información de la realidad objetiva  para dar respuesta a las interrogantes que se nos plantea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c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La investigación siempre tiene sus comienzos en una pregunta o en un problema específ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2. ¿Qué es la Investig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tesis es una opinión o juicio original que un autor adelanta y sustenta respecto a un tema o problema; a fin de contribuir al conocimiento de un campo especializado y concreto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.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tesis es una investigación, que además de contribuir  al conocimiento, propone alternativas de solución a un problema existent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3. ¿Qué es La tesis Profes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Selección y definición del Tema de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l problema de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Objetivos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Justificación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Marco de Referencia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Formulación de la Hipótesis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Aspectos Metodológicos de la Investig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4. Fases de diseño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8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Tabla de Contenid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IX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Bibliografía Preliminar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Cronograma de Trabaj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Presupuesto para la Investigación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4. Fases de diseño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l Investigador define en qué área del conocimiento, referida a su formación profesional, quiere llevarse a cabo la Investigación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Rectángulo redondeado"/>
          <p:cNvSpPr/>
          <p:nvPr/>
        </p:nvSpPr>
        <p:spPr>
          <a:xfrm>
            <a:off x="785880" y="407196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El Investigador debe responder a interrogantes ¿es de interés el tema?, ¿existe información?, ¿Qué resultados puede traer la Investig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Flecha abajo"/>
          <p:cNvSpPr/>
          <p:nvPr/>
        </p:nvSpPr>
        <p:spPr>
          <a:xfrm>
            <a:off x="4572000" y="55720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7 Conector recto"/>
          <p:cNvSpPr/>
          <p:nvPr/>
        </p:nvSpPr>
        <p:spPr>
          <a:xfrm>
            <a:off x="2071800" y="57862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8 Flecha abajo"/>
          <p:cNvSpPr/>
          <p:nvPr/>
        </p:nvSpPr>
        <p:spPr>
          <a:xfrm>
            <a:off x="1857240" y="578628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9 Flecha abajo"/>
          <p:cNvSpPr/>
          <p:nvPr/>
        </p:nvSpPr>
        <p:spPr>
          <a:xfrm>
            <a:off x="6858000" y="5786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 Flecha abajo"/>
          <p:cNvSpPr/>
          <p:nvPr/>
        </p:nvSpPr>
        <p:spPr>
          <a:xfrm>
            <a:off x="4500720" y="3429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 ¿Cómo le gustaría profundizar su conocimiento: Profundizando su teoría o contrastando el modelo teórico con una real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 redondeado"/>
          <p:cNvSpPr/>
          <p:nvPr/>
        </p:nvSpPr>
        <p:spPr>
          <a:xfrm>
            <a:off x="857160" y="3214800"/>
            <a:ext cx="33577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3. Si su decisión es explorar o profundizar en el modelo teó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9 Rectángulo redondeado"/>
          <p:cNvSpPr/>
          <p:nvPr/>
        </p:nvSpPr>
        <p:spPr>
          <a:xfrm>
            <a:off x="5072040" y="3214800"/>
            <a:ext cx="335772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3. Si su decisión es contrastar el modelo  teórico  con un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4. Acuda a una Biblioteca  y revise toda la bibliografía referida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Rectángulo redondeado"/>
          <p:cNvSpPr/>
          <p:nvPr/>
        </p:nvSpPr>
        <p:spPr>
          <a:xfrm>
            <a:off x="857160" y="3214800"/>
            <a:ext cx="33577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5. Inicie su proceso de lectura y elabore fichas de le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Rectángulo redondeado"/>
          <p:cNvSpPr/>
          <p:nvPr/>
        </p:nvSpPr>
        <p:spPr>
          <a:xfrm>
            <a:off x="5072040" y="3214800"/>
            <a:ext cx="335772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5. ¿Estará interesado la empresa, organización o sector en lo qué Ud. quiere investi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lecha abajo"/>
          <p:cNvSpPr/>
          <p:nvPr/>
        </p:nvSpPr>
        <p:spPr>
          <a:xfrm>
            <a:off x="4572000" y="85716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Rectángulo redondeado"/>
          <p:cNvSpPr/>
          <p:nvPr/>
        </p:nvSpPr>
        <p:spPr>
          <a:xfrm>
            <a:off x="857160" y="4071960"/>
            <a:ext cx="33577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7. Ahora inicie la lectura sobre los aspectos teórico-prácticos sobre el planteamiento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 redondeado"/>
          <p:cNvSpPr/>
          <p:nvPr/>
        </p:nvSpPr>
        <p:spPr>
          <a:xfrm>
            <a:off x="5072040" y="4071960"/>
            <a:ext cx="33577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2060"/>
                </a:solidFill>
                <a:latin typeface="Calibri"/>
              </a:rPr>
              <a:t>7.  A este nivel dispone de bibliografía, fichas, asesor, definición del ámbito, apoyo interés del sector e información preliminar referido a su objeto de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1 Conector recto"/>
          <p:cNvSpPr/>
          <p:nvPr/>
        </p:nvSpPr>
        <p:spPr>
          <a:xfrm>
            <a:off x="2071800" y="37130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2 Flecha abajo"/>
          <p:cNvSpPr/>
          <p:nvPr/>
        </p:nvSpPr>
        <p:spPr>
          <a:xfrm>
            <a:off x="1857240" y="371484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3 Flecha abajo"/>
          <p:cNvSpPr/>
          <p:nvPr/>
        </p:nvSpPr>
        <p:spPr>
          <a:xfrm>
            <a:off x="6858000" y="37148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 Rectángulo redondeado"/>
          <p:cNvSpPr/>
          <p:nvPr/>
        </p:nvSpPr>
        <p:spPr>
          <a:xfrm>
            <a:off x="1009800" y="1000080"/>
            <a:ext cx="335736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6. En este nivel Ud. Dispone de una bibliografía básica, profesor asesor, fichas de lectura  que son el resultado de su juicio  en el conocimiento teórico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4 Rectángulo redondeado"/>
          <p:cNvSpPr/>
          <p:nvPr/>
        </p:nvSpPr>
        <p:spPr>
          <a:xfrm>
            <a:off x="5000760" y="1000080"/>
            <a:ext cx="335736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6.  Consulte con los funcionarios  de las empresas, organización o  sector  para que le suministren in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Rectángulo redondeado"/>
          <p:cNvSpPr/>
          <p:nvPr/>
        </p:nvSpPr>
        <p:spPr>
          <a:xfrm>
            <a:off x="785880" y="3357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8. Defina el Tema y empiece a plantear el  problema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Flecha abajo"/>
          <p:cNvSpPr/>
          <p:nvPr/>
        </p:nvSpPr>
        <p:spPr>
          <a:xfrm>
            <a:off x="4143240" y="1428840"/>
            <a:ext cx="1071720" cy="14288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 u="sng">
                <a:solidFill>
                  <a:srgbClr val="000000"/>
                </a:solidFill>
                <a:uFillTx/>
                <a:latin typeface="Calibri"/>
              </a:rPr>
              <a:t>Método Científico      Método Estadís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6868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1347120" y="2643840"/>
            <a:ext cx="214488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Plane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898640" y="3367080"/>
            <a:ext cx="168156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reco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368800" y="3914640"/>
            <a:ext cx="174888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organ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2627280" y="3073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843280" y="3695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2705760" y="4419360"/>
            <a:ext cx="175932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pres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3286080" y="4141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2682000" y="4920120"/>
            <a:ext cx="2462760" cy="643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Analizar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interpret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3419640" y="4703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143160" y="2930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4000680" y="2930400"/>
            <a:ext cx="115236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4929120" y="5261040"/>
            <a:ext cx="72252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5651640" y="3864960"/>
            <a:ext cx="2520720" cy="1630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27 Conector recto de flecha"/>
          <p:cNvCxnSpPr/>
          <p:nvPr/>
        </p:nvCxnSpPr>
        <p:spPr>
          <a:xfrm>
            <a:off x="4000680" y="85572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Fundamentos Teóricos: El conocimiento científic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Conocer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. Conocimiento 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C. Conocimiento científic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. Ciencia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¿Qué es la Investigación?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3. ¿Qué es La tesis Profesional?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4. Fases del diseño de Invest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2728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1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5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2060"/>
                </a:solidFill>
                <a:latin typeface="Calibri"/>
              </a:rPr>
              <a:t>A. Conocer:</a:t>
            </a:r>
            <a:br>
              <a:rPr sz="32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Proceso Intelectual por el cual se establece una relación entre quien conoce (actor ) y el objeto conocido (realidad)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1233360"/>
            <a:ext cx="77155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 Conocimiento 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Actividad por medio de la cual adquirimos la certeza de que existe la realidad  y está dotado de características que no ponemos en duda.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Hay dos tipos: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1 Conocimiento  Empírico</a:t>
            </a:r>
            <a:br>
              <a:rPr sz="3600"/>
            </a:br>
            <a:r>
              <a:rPr b="0" lang="es-ES_tradnl" sz="4000" spc="-1" strike="noStrike">
                <a:solidFill>
                  <a:srgbClr val="002060"/>
                </a:solidFill>
                <a:latin typeface="Calibri"/>
              </a:rPr>
              <a:t>El hombre común conoce los hechos a través de la experiencia cumplida al azar, sin método y mediante investigaciones personales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2 Conocimiento  Científico</a:t>
            </a:r>
            <a:br>
              <a:rPr sz="3600"/>
            </a:br>
            <a:r>
              <a:rPr b="0" lang="es-ES_tradnl" sz="4000" spc="-1" strike="noStrike">
                <a:solidFill>
                  <a:srgbClr val="002060"/>
                </a:solidFill>
                <a:latin typeface="Calibri"/>
              </a:rPr>
              <a:t>Observa, describe, explica y predice su objeto mediante procedimientos y métodos basados en la lógica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2 Conocimiento científico</a:t>
            </a:r>
            <a:br>
              <a:rPr sz="32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Construye explicaciones acerca de la realidad. Para ello utiliza métodos basados en la lógica . Establece leyes generales y explicaciones particulares de su objeto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Los Procesos Básicos del conocimiento científico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123336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os Procesos Básicos del conocimiento  científico: </a:t>
            </a:r>
            <a:br>
              <a:rPr sz="32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1. Observa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2. Describe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3. Explica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4. Pred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963000"/>
            <a:ext cx="7715520" cy="484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C. Cienci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Conocimiento sistemático que el hombre construye sobre una realidad en condiciones históricas y sociales concretas y determinadas . Se expresa en proposiciones  teóricas a partir de las cuales se validan y se formulan alternativas a esa re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0-26T00:51:07Z</dcterms:modified>
  <cp:revision>330</cp:revision>
  <dc:subject/>
  <dc:title>¿LAS GRANDES CIUDADES  SON ESPACIOS URBANOS HOMOGENEOS?</dc:title>
</cp:coreProperties>
</file>